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087C-102F-4BEC-8CE9-47E8E76C3A88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C31E-57E7-4400-9F3D-6CF18CF974A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C5E6-93E3-41AD-A858-C6AB2227F8B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BC6E-344C-446A-B6D3-4DD90137C1D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5E34-B973-4DAC-8DF3-6272E6BDF94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97C3-6D35-4189-9392-D8E8363C208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C005-52E5-4EAF-8D87-52DA4C06115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9C63-1790-4662-889B-EAF2052B3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FC09-66F5-40DA-92A4-E071E9F5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047E-D7C6-408D-82F3-2EB3938F4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572C-38D6-4F9B-BBD3-1F711B2E1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0475-A311-4049-B9FA-8D6DCE52D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9C06-9580-4681-940D-E5C2D1DD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B376-5D90-4A1D-ABEE-79913010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D2F5-A64A-44A9-A5AC-E1F41F58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8D73-35C2-4A91-8E45-F5DA9830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D595-3A8B-43BF-B747-5E93AD67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D4179-A45B-472B-AB65-3598104A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F6AE-C11D-423A-A689-6D4AD2A6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2D1C-D0CC-4BC3-A570-CC10F95D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432F-41B2-4B5C-A4EB-0056D2BD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4AA42-4090-409D-9A5F-980D3EEE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E90C-EC12-487F-9A32-6A211A772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7A845-5080-495C-809C-4A4BA2081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3C30-FCF4-480E-B571-4027AF74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68A5-1486-4CA5-949A-905397A7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C5B2-9478-428A-981D-41E153E6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A69D-DCF5-4F95-A2F9-9E1B8F12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6E9A-62CA-4E81-92DB-B299B029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A6EE-45EA-4ED4-BD70-F7851970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E7AA-D1EB-45F9-A608-5819CE98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5A76-1F08-4230-A8B1-C91F3B109B0B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854A-4417-4D7D-B7D6-85297D3D4812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VIDUS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78920" y="1341000"/>
            <a:ext cx="882036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Pieraksti intervējamās personas vārdu, uzvārdu un amatu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skaidro, kur notiks intervija un kā tur nokļūt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ekavē, taču neierodies arī pārāk savlaicīg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teikti informē, ja nevarēsi ierasties vai kavēs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Ievēro uzņēmuma iekšējās kārtības noteikumus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74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00000"/>
                </a:solidFill>
                <a:latin typeface="Calibri"/>
              </a:rPr>
              <a:t>Atceries, ka tu jau tagad veido savu darbinieka reputāciju!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365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1332000" y="5516640"/>
            <a:ext cx="1096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saki paldies par tev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dz ieteikt vēl kādu, kurš varētu tev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i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, ko esi uzzinājis un kā to izmantot savas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tev veltīto laiku un atbalstu, tu parādi, ka proti novērtēt pūles un radi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9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 datīvā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4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veidot intervijas jautājumu krāju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gūt intervijas etiķ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03640" y="429264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425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AS IR DARBA DEVĒJ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Uzņēmējs, uzņēmuma īpašniek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Uzņēmuma valdes loceklis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Vadītājs (uzņēmuma, nodaļas, filiāles)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ersonāla daļas speciālist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5" descr="iCLIPART, silhouettes, women, men, people, teamwork, plannings, leaders, brainstorming, community, cooperation, lifestyle, city, business concepts, corporate"/>
          <p:cNvPicPr/>
          <p:nvPr/>
        </p:nvPicPr>
        <p:blipFill>
          <a:blip r:embed="rId1"/>
          <a:srcRect l="0" t="24131" r="0" b="8420"/>
          <a:stretch/>
        </p:blipFill>
        <p:spPr>
          <a:xfrm>
            <a:off x="2124000" y="4221000"/>
            <a:ext cx="34164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I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155736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7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SIM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domājiet pēc iespējas vairāk jautājumu, kurus uzdot darba devējam, lai uzzinātu par: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24000" y="1989000"/>
            <a:ext cx="6192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12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13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i visu, ko vari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d intervijas mērķi – ko gribi uzzināt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i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8T14:24:03Z</dcterms:modified>
  <cp:revision>346</cp:revision>
  <dc:subject/>
  <dc:title>Slide 1</dc:title>
</cp:coreProperties>
</file>